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83EA-72C7-485C-9A35-580E1FC67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0024-A70F-44C2-9BE8-23EA9577A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8A95-969F-427C-8377-2CC6EA320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8603-4553-45CC-AF3F-E12A6AC69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7CF341-A6F3-4B12-BE32-FB1FC09DE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3FF819-1151-4B20-AF92-CE1DF93BA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07EA6A-C6FA-4D31-A3B2-6D8AA65B5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5BB9E9-7313-4029-A92C-119218591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67C36F-40A3-440C-A2C4-F762CC644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752A2A-09DE-43C5-90A4-0C333436D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C08C41-8AB6-4EB7-BD70-E938B6FE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5939-9C81-43DC-A3F7-9E322EEEA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D632F8-E969-4330-AD5C-49334F2C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CFB98A-D4ED-4165-B9F8-878641A83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049C12-A951-448E-A9EF-177FF64E4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C88779-A3BD-48E2-AF55-D8C1057CF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0DDC35-3138-4C52-99E5-1A6EEDCAF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F1F3-F1CA-45B3-9126-74257F7A8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962E-05ED-4694-983D-20927634D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AED1-FBBB-47B0-91E7-E78CBB4FE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7780-0A3F-4537-8ED8-851A93926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1806-D85B-4B23-9256-6A361107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3A68-B391-44FF-8776-370F6E59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199A-1A60-4FAA-B0FB-9BC39F637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514B1-EF2D-494E-84B1-5627AA88A9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443E1-E0E5-41A4-9644-A49D4DBA24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 Remnant Shall Retur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arter 8, Lesson 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ges 54-5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zekiel 37:1-14; 15-38, Daniel 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Insanity of Nebuchadnezzar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niel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fter a period of time Nebuchadnezzar’s  understanding returned to him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praised the Most High and honored Him as the one who lives forev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said God does according to His will in the army of heaven, and no one can stop Him, or even question what He do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said he praises and extols and honors the King of Heav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ing Nebuchadnezzar had learned his less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Years to the Fall of Babyl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458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buchadnezzar -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stroyed Jerusalem in 586 B.C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ed in 562 B.C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il-Merodach his son reigned only 2 Yea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riglissar succeeded him and died in 556 B.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bonidus the last king of Babylon succeeded hi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eanwhile, Persia under King Cyrus was on the ri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rius looks for a legal loophole for Daniel but cannot find one – 14-1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niel must be thrown to the l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aniel 6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Heavenly Plan – 6:16-2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rius’ concern – 16-1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rius’ early morning cry: “Was God able to save you?” – 19-2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niel’s answer: God shut the lion’s mouth – 21-2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King’s command – 23-2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bout Daniel: Remove him from the lions’ d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bout Daniel’s foes: Throw them to the l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bout Daniel’s God: All are to fear and reverence Daniel’s Go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920880"/>
            <a:ext cx="9144000" cy="5937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143000" y="380880"/>
            <a:ext cx="70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ok out Babylon, Here Comes Cyrus of Pers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 rot="3445200">
            <a:off x="8300520" y="5381640"/>
            <a:ext cx="104796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nshan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2" name=""/>
          <p:cNvSpPr txBox="1"/>
          <p:nvPr/>
        </p:nvSpPr>
        <p:spPr>
          <a:xfrm rot="2556600">
            <a:off x="5486040" y="2133720"/>
            <a:ext cx="156204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edian Empire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" name=""/>
          <p:cNvSpPr/>
          <p:nvPr/>
        </p:nvSpPr>
        <p:spPr>
          <a:xfrm>
            <a:off x="8001000" y="4267080"/>
            <a:ext cx="83808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920880"/>
            <a:ext cx="9144000" cy="59371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057400" y="380880"/>
            <a:ext cx="50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 Are Here On The Time-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00400" y="3581280"/>
            <a:ext cx="45720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16765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zekiel and Dani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Valley of the Dry Bones Vision</a:t>
            </a:r>
            <a:br>
              <a:rPr sz="36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zekiel 37:1-14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09120" y="18284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89080" indent="-289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graphic and powerful vision in the Bi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9080" indent="-289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son fo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6280" indent="-289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w God’s great power and He can always accomplish His purpo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6280" indent="-289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tives were sunk in despair in their cap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6280" indent="-289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considered themselves buried and                            dead and without hop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Valley of the Dry Bones Vision</a:t>
            </a:r>
            <a:br>
              <a:rPr sz="36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zekiel 37:1-14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96720" indent="-3967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took Ezekiel into the midst of a valle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96720" indent="-3967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ley full of an enormous number of dry b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96720" indent="-3967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asked “Mortal, can these bones live?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96720" indent="-3967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zekiel told to prophesy over these dry b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96720" indent="-3967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eath came into them and they liv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ision - Israel and Judah Reunite</a:t>
            </a:r>
            <a:br>
              <a:rPr sz="36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zekiel 37:15-28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533160" y="18284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89080" indent="-289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 tells Ezekiel to take two sticks in his hand and tell the children of Israel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58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will make them one stic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58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will make them one nation with one k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58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will rescue and cleanse the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58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will be their God and they will be my peop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58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vid will be king over the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58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will set my sanctuary in their mid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9080" indent="-289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lications of this prophecy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Insanity of Nebuchadnezzar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niel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buchadnezzar’s Dream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great tree growing in the midst of the ear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liage was luxuria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lled with fru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ast sought shade under 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irds roosted in branch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 flesh was fed from 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Insanity of Nebuchadnezzar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niel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buchadnezzar’s Dream continues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holy messenger came down from heaven saying 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t the tree dow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t off its branch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ake off its leav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atter its fru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ut a fence of brass and iron around 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ave the stump wet with de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Insanity of Nebuchadnezzar</a:t>
            </a:r>
            <a:br>
              <a:rPr sz="32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niel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niel’s interpretation of dream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ing, you are the tre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 will be driven from men with the beasts of fiel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 will eat grass as ox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 will be wet from dew of heav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ill last until seven times pass over yo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 will realize the Most High rules over kingdoms of men and gives to whomever he wil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r kingdom will be kept for you until you learn that Heaven does ru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Insanity of Nebuchadnezzar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niel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dream comes true one year later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ile walking in the palace, Nebuchadnezzar gives himself credit for the greatness of Babyl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voice from heaven says 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r kingdom will depart from yo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 will be driven from men to dwell in the fiel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 will eat grass as an ox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r body will be wet with de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ven times will pass over you till you know the Most High rules in the kingdom of men and gives it to whomever He wil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2T13:14:50Z</dcterms:created>
  <dc:creator>John Vines</dc:creator>
  <dc:description/>
  <dc:language>en-US</dc:language>
  <cp:lastModifiedBy>Frank D Vines</cp:lastModifiedBy>
  <dcterms:modified xsi:type="dcterms:W3CDTF">2006-04-03T20:52:19Z</dcterms:modified>
  <cp:revision>30</cp:revision>
  <dc:subject/>
  <dc:title>A Remnant Shall Return</dc:title>
</cp:coreProperties>
</file>